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760D-702E-44DA-8902-F02373EB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BB09-04B6-4858-923D-A4E4D534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08D8-DC67-4A61-959D-36474A09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161A-A092-4BE0-8790-0A720765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F225-E5E1-4759-9E69-FDA7CBDF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48CE-F024-4C17-87CA-7E77F39D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1ABD-465E-4179-8BC5-DB7D1C19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9D92-CE3C-4AC2-9AFA-27B705F4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DA89-04A4-4232-ADF3-4DBBED57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DF39-E7EE-42D0-82EE-1DF7CA76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FF32-BB36-4FA1-822E-7BD6045A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D37C-82F2-4FA1-BAC8-C57326D6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B778-ACCF-425E-8047-D82BC8D0D8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ac"/>
                </a:solidFill>
                <a:latin typeface="Tahoma"/>
              </a:rPr>
              <a:t>Me llamo _____________         Clase 7 IL</a:t>
            </a:r>
            <a:br>
              <a:rPr sz="3600"/>
            </a:br>
            <a:r>
              <a:rPr b="0" lang="en-US" sz="3600" spc="-1" strike="noStrike">
                <a:solidFill>
                  <a:srgbClr val="00b0ac"/>
                </a:solidFill>
                <a:latin typeface="Tahoma"/>
              </a:rPr>
              <a:t>La fecha es el 24 de mayo del 2013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99"/>
                </a:solidFill>
                <a:latin typeface="Tahoma"/>
              </a:rPr>
              <a:t>Propósito # 84: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¿Qué son los Pronombres de Objeto Direct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99"/>
                </a:solidFill>
                <a:latin typeface="Tahoma"/>
              </a:rPr>
              <a:t>Actividad Inici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pia y completa con la forma correcta del verbo en el PRETERI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¿ __________tú ayer? 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(estudia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Yo _________ mucho en clase. 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(participa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Emilio y Julia _________ en la fiesta el sábado. 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(baila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Luisa _________ en la piscina de su tía el verano pasado. 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(nada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Nosotros __________ al fútbol la semana pasada. 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(juga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ahoma"/>
              </a:rPr>
              <a:t>El pronombre de objeto directo</a:t>
            </a:r>
            <a:br>
              <a:rPr sz="4400"/>
            </a:br>
            <a:r>
              <a:rPr b="0" i="1" lang="en-US" sz="3200" spc="-1" strike="noStrike">
                <a:solidFill>
                  <a:srgbClr val="ff3399"/>
                </a:solidFill>
                <a:latin typeface="Tahoma"/>
              </a:rPr>
              <a:t>(Direct Object Pronouns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The Direct Object is the word in the sentence that receives the action of the verb. It answers the question </a:t>
            </a:r>
            <a:r>
              <a:rPr b="1" i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ffcc00"/>
                </a:solidFill>
                <a:latin typeface="Tahoma"/>
              </a:rPr>
              <a:t>what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 or </a:t>
            </a:r>
            <a:r>
              <a:rPr b="1" i="1" lang="en-US" sz="2800" spc="-1" strike="noStrike">
                <a:solidFill>
                  <a:srgbClr val="ffcc00"/>
                </a:solidFill>
                <a:latin typeface="Tahoma"/>
              </a:rPr>
              <a:t>whom 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and can be a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noun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 or a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prono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Tahoma"/>
              </a:rPr>
              <a:t>Lo, La, Los, Las are the Direct Object PRONOUNS. They can </a:t>
            </a:r>
            <a:r>
              <a:rPr b="1" lang="en-US" sz="2800" spc="-1" strike="noStrike">
                <a:solidFill>
                  <a:srgbClr val="66ff66"/>
                </a:solidFill>
                <a:latin typeface="Tahoma"/>
              </a:rPr>
              <a:t>REPLACE</a:t>
            </a:r>
            <a:r>
              <a:rPr b="1" lang="en-US" sz="2800" spc="-1" strike="noStrike">
                <a:solidFill>
                  <a:srgbClr val="ff7c80"/>
                </a:solidFill>
                <a:latin typeface="Tahoma"/>
              </a:rPr>
              <a:t> either a THING or a PERSON. It </a:t>
            </a:r>
            <a:r>
              <a:rPr b="1" lang="en-US" sz="2800" spc="-1" strike="noStrike" u="sng">
                <a:solidFill>
                  <a:srgbClr val="ff7c80"/>
                </a:solidFill>
                <a:uFillTx/>
                <a:latin typeface="Tahoma"/>
              </a:rPr>
              <a:t>must agree</a:t>
            </a:r>
            <a:r>
              <a:rPr b="1" lang="en-US" sz="2800" spc="-1" strike="noStrike">
                <a:solidFill>
                  <a:srgbClr val="ff7c80"/>
                </a:solidFill>
                <a:latin typeface="Tahoma"/>
              </a:rPr>
              <a:t> with the noun it replaces and it </a:t>
            </a:r>
            <a:r>
              <a:rPr b="1" lang="en-US" sz="2800" spc="-1" strike="noStrike" u="sng">
                <a:solidFill>
                  <a:srgbClr val="ff7c80"/>
                </a:solidFill>
                <a:uFillTx/>
                <a:latin typeface="Tahoma"/>
              </a:rPr>
              <a:t>comes before the ver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¿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Jos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é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tom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el exam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Si, Jos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é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lo tom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ó.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Oval 6"/>
          <p:cNvSpPr/>
          <p:nvPr/>
        </p:nvSpPr>
        <p:spPr>
          <a:xfrm>
            <a:off x="2666880" y="4800600"/>
            <a:ext cx="2057400" cy="457200"/>
          </a:xfrm>
          <a:prstGeom prst="ellipse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Line 7"/>
          <p:cNvSpPr/>
          <p:nvPr/>
        </p:nvSpPr>
        <p:spPr>
          <a:xfrm flipV="1">
            <a:off x="3657600" y="4495320"/>
            <a:ext cx="152280" cy="30492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Line 8"/>
          <p:cNvSpPr/>
          <p:nvPr/>
        </p:nvSpPr>
        <p:spPr>
          <a:xfrm flipH="1">
            <a:off x="3124080" y="5105520"/>
            <a:ext cx="15264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2666880" y="55180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U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971800" y="4267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Direct objec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6172200" y="6019920"/>
            <a:ext cx="533520" cy="533160"/>
          </a:xfrm>
          <a:prstGeom prst="ellipse">
            <a:avLst/>
          </a:prstGeom>
          <a:noFill/>
          <a:ln w="284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Line 12"/>
          <p:cNvSpPr/>
          <p:nvPr/>
        </p:nvSpPr>
        <p:spPr>
          <a:xfrm flipV="1">
            <a:off x="6553080" y="5714640"/>
            <a:ext cx="304920" cy="304920"/>
          </a:xfrm>
          <a:prstGeom prst="line">
            <a:avLst/>
          </a:prstGeom>
          <a:ln w="284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Line 13"/>
          <p:cNvSpPr/>
          <p:nvPr/>
        </p:nvSpPr>
        <p:spPr>
          <a:xfrm flipH="1" flipV="1">
            <a:off x="4572000" y="5181120"/>
            <a:ext cx="1752480" cy="838440"/>
          </a:xfrm>
          <a:prstGeom prst="line">
            <a:avLst/>
          </a:prstGeom>
          <a:ln w="2844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6019920" y="53341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Tahoma"/>
              </a:rPr>
              <a:t>Direct object PRONOU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15"/>
          <p:cNvSpPr/>
          <p:nvPr/>
        </p:nvSpPr>
        <p:spPr>
          <a:xfrm rot="1450800">
            <a:off x="4647960" y="56527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Tahoma"/>
              </a:rPr>
              <a:t>REPLA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380880"/>
            <a:ext cx="8915400" cy="59166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1295280" y="5638680"/>
            <a:ext cx="678204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99"/>
                </a:solidFill>
                <a:latin typeface="Tahoma"/>
              </a:rPr>
              <a:t>Practic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990720"/>
            <a:ext cx="8839080" cy="56703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1295280" y="6019920"/>
            <a:ext cx="678204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1066680" y="4800600"/>
            <a:ext cx="678204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838080" y="1752480"/>
            <a:ext cx="556272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00"/>
                </a:solidFill>
                <a:latin typeface="Tahoma"/>
              </a:rPr>
              <a:t>Identifica por fav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919080" y="46623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4c00"/>
                </a:solidFill>
                <a:latin typeface="Tahoma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976480" y="46483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4c00"/>
                </a:solidFill>
                <a:latin typeface="Tahoma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4575240" y="44337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4c00"/>
                </a:solidFill>
                <a:latin typeface="Tahoma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6486120" y="481500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4c00"/>
                </a:solidFill>
                <a:latin typeface="Tahoma"/>
              </a:rPr>
              <a:t>4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99"/>
                </a:solidFill>
                <a:latin typeface="Tahoma"/>
              </a:rPr>
              <a:t>Practic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0" y="990720"/>
            <a:ext cx="8839080" cy="5670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1295280" y="6019920"/>
            <a:ext cx="678204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2971800" y="1752480"/>
            <a:ext cx="3429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00"/>
                </a:solidFill>
                <a:latin typeface="Tahoma"/>
              </a:rPr>
              <a:t>Identifica por fav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066680" y="4419720"/>
            <a:ext cx="152424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00"/>
                </a:solidFill>
                <a:latin typeface="Tahoma"/>
              </a:rPr>
              <a:t>Las bot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2743200" y="2438280"/>
            <a:ext cx="152388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00"/>
                </a:solidFill>
                <a:latin typeface="Tahoma"/>
              </a:rPr>
              <a:t>Los esquí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4876920" y="4114800"/>
            <a:ext cx="152388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00"/>
                </a:solidFill>
                <a:latin typeface="Tahoma"/>
              </a:rPr>
              <a:t>El traje de bañ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4876920" y="4419720"/>
            <a:ext cx="152388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00"/>
                </a:solidFill>
                <a:latin typeface="Tahoma"/>
              </a:rPr>
              <a:t>El bañado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6781680" y="2666880"/>
            <a:ext cx="152424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00"/>
                </a:solidFill>
                <a:latin typeface="Tahoma"/>
              </a:rPr>
              <a:t>La raquet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228600" y="1752480"/>
            <a:ext cx="853452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00"/>
                </a:solidFill>
                <a:latin typeface="Tahoma"/>
              </a:rPr>
              <a:t>Copia y remplaza el SUSTANTIVO con un PRONOMBRE de Objeto Direc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XTBOOK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pia y respon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istorieta 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. 1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pia y complet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istorieta 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. 13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BOOK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leta p.6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53352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area # 8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22:03:53Z</dcterms:created>
  <dc:creator>Helen Zumaeta</dc:creator>
  <dc:description/>
  <dc:language>en-US</dc:language>
  <cp:lastModifiedBy>Helen Zumaeta</cp:lastModifiedBy>
  <cp:lastPrinted>2013-05-24T18:38:38Z</cp:lastPrinted>
  <dcterms:modified xsi:type="dcterms:W3CDTF">2013-05-24T20:14:52Z</dcterms:modified>
  <cp:revision>13</cp:revision>
  <dc:subject/>
  <dc:title>Me llamo _____________         Clase 9 N La fecha es el 21 de septiembre del 2012</dc:title>
</cp:coreProperties>
</file>